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push.wav" ContentType="audio/x-wav"/>
  <Override PartName="/ppt/media/image2.jpeg" ContentType="image/jpeg"/>
  <Override PartName="/ppt/media/arrow.wav" ContentType="audio/x-wav"/>
  <Override PartName="/ppt/media/image7.jpeg" ContentType="image/jpeg"/>
  <Override PartName="/ppt/media/voltage.wav" ContentType="audio/x-wav"/>
  <Override PartName="/ppt/media/click.wav" ContentType="audio/x-wav"/>
  <Override PartName="/ppt/media/image6.jpeg" ContentType="image/jpeg"/>
  <Override PartName="/ppt/media/breeze.wav" ContentType="audio/x-wav"/>
  <Override PartName="/ppt/media/image13.png" ContentType="image/png"/>
  <Override PartName="/ppt/media/image11.jpeg" ContentType="image/jpeg"/>
  <Override PartName="/ppt/media/image12.png" ContentType="image/png"/>
  <Override PartName="/ppt/media/wind.wav" ContentType="audio/x-wav"/>
  <Override PartName="/ppt/media/image9.png" ContentType="image/png"/>
  <Override PartName="/ppt/media/image1.jpeg" ContentType="image/jpeg"/>
  <Override PartName="/ppt/media/image5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A664-0925-46E7-822A-63BCFEC31E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46F-34B1-40FA-8C18-2020FC4780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152280" y="62485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Física y Química 3.º ES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AutoShape 8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971640" y="260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Franklin Gothic Medium"/>
              </a:rPr>
              <a:t>Las magnitudes físicas y su medid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" name="Picture 14" descr="Logo anaya"/>
          <p:cNvPicPr/>
          <p:nvPr/>
        </p:nvPicPr>
        <p:blipFill>
          <a:blip r:embed="rId2"/>
          <a:stretch/>
        </p:blipFill>
        <p:spPr>
          <a:xfrm>
            <a:off x="6948360" y="5967360"/>
            <a:ext cx="207324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audio" Target="../media/voltag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>
            <a:hlinkClick r:id="rId1" action="ppaction://hlinksldjump"/>
          </p:cNvPr>
          <p:cNvSpPr/>
          <p:nvPr/>
        </p:nvSpPr>
        <p:spPr>
          <a:xfrm>
            <a:off x="2230560" y="1560600"/>
            <a:ext cx="252072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MAGNITU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011560" y="1560600"/>
            <a:ext cx="136872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UNIDA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30560" y="1135080"/>
            <a:ext cx="5545080" cy="27648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SISTEMA INTERNACIONAL DE UNIDADE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232000" y="198900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LONGITU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5003640" y="198900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etr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Text Box 67"/>
          <p:cNvSpPr/>
          <p:nvPr/>
        </p:nvSpPr>
        <p:spPr>
          <a:xfrm>
            <a:off x="2232000" y="239868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AS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Text Box 68"/>
          <p:cNvSpPr/>
          <p:nvPr/>
        </p:nvSpPr>
        <p:spPr>
          <a:xfrm>
            <a:off x="5003640" y="239868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ilogram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Text Box 84"/>
          <p:cNvSpPr/>
          <p:nvPr/>
        </p:nvSpPr>
        <p:spPr>
          <a:xfrm>
            <a:off x="2232000" y="280836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TIEMP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Text Box 85"/>
          <p:cNvSpPr/>
          <p:nvPr/>
        </p:nvSpPr>
        <p:spPr>
          <a:xfrm>
            <a:off x="2232000" y="3218040"/>
            <a:ext cx="2519280" cy="39852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INTENSIDAD DE CORRIENTE ELÉCTRIC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Text Box 86"/>
          <p:cNvSpPr/>
          <p:nvPr/>
        </p:nvSpPr>
        <p:spPr>
          <a:xfrm>
            <a:off x="2232000" y="362736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TEMPERATUR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2232000" y="403704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ANTIDAD DE SUSTANCI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Text Box 88"/>
          <p:cNvSpPr/>
          <p:nvPr/>
        </p:nvSpPr>
        <p:spPr>
          <a:xfrm>
            <a:off x="2232000" y="444672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INTENSIDAD LUMINOS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Text Box 89"/>
          <p:cNvSpPr/>
          <p:nvPr/>
        </p:nvSpPr>
        <p:spPr>
          <a:xfrm>
            <a:off x="5003640" y="280836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egund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5003640" y="321804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Amperi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5003640" y="362736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elvi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Text Box 92"/>
          <p:cNvSpPr/>
          <p:nvPr/>
        </p:nvSpPr>
        <p:spPr>
          <a:xfrm>
            <a:off x="5003640" y="403704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ol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Text Box 93"/>
          <p:cNvSpPr/>
          <p:nvPr/>
        </p:nvSpPr>
        <p:spPr>
          <a:xfrm>
            <a:off x="5003640" y="444672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andel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Text Box 97"/>
          <p:cNvSpPr/>
          <p:nvPr/>
        </p:nvSpPr>
        <p:spPr>
          <a:xfrm>
            <a:off x="6588000" y="1558800"/>
            <a:ext cx="1187640" cy="2462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SÍMBOL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Text Box 98"/>
          <p:cNvSpPr/>
          <p:nvPr/>
        </p:nvSpPr>
        <p:spPr>
          <a:xfrm>
            <a:off x="538200" y="1916280"/>
            <a:ext cx="1440000" cy="303948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06800" bIns="118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FUNDAMENTALE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Text Box 100"/>
          <p:cNvSpPr/>
          <p:nvPr/>
        </p:nvSpPr>
        <p:spPr>
          <a:xfrm>
            <a:off x="538200" y="4941720"/>
            <a:ext cx="1441440" cy="1069920"/>
          </a:xfrm>
          <a:prstGeom prst="rect">
            <a:avLst/>
          </a:prstGeom>
          <a:solidFill>
            <a:srgbClr val="99cc00">
              <a:alpha val="70000"/>
            </a:srgbClr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0" bIns="169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Franklin Gothic Medium"/>
              </a:rPr>
              <a:t>SUPLEMENTARIA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Text Box 101"/>
          <p:cNvSpPr/>
          <p:nvPr/>
        </p:nvSpPr>
        <p:spPr>
          <a:xfrm>
            <a:off x="6588000" y="19890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Text Box 102"/>
          <p:cNvSpPr/>
          <p:nvPr/>
        </p:nvSpPr>
        <p:spPr>
          <a:xfrm>
            <a:off x="6588000" y="238608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g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Text Box 103"/>
          <p:cNvSpPr/>
          <p:nvPr/>
        </p:nvSpPr>
        <p:spPr>
          <a:xfrm>
            <a:off x="6588000" y="281772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Text Box 104"/>
          <p:cNvSpPr/>
          <p:nvPr/>
        </p:nvSpPr>
        <p:spPr>
          <a:xfrm>
            <a:off x="6588000" y="32148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Text Box 105"/>
          <p:cNvSpPr/>
          <p:nvPr/>
        </p:nvSpPr>
        <p:spPr>
          <a:xfrm>
            <a:off x="6588000" y="362916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K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Text Box 106"/>
          <p:cNvSpPr/>
          <p:nvPr/>
        </p:nvSpPr>
        <p:spPr>
          <a:xfrm>
            <a:off x="6588000" y="404172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mol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Text Box 107"/>
          <p:cNvSpPr/>
          <p:nvPr/>
        </p:nvSpPr>
        <p:spPr>
          <a:xfrm>
            <a:off x="6588000" y="443880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c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Text Box 108"/>
          <p:cNvSpPr/>
          <p:nvPr/>
        </p:nvSpPr>
        <p:spPr>
          <a:xfrm>
            <a:off x="2232000" y="504972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ÁNGULO PLAN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Text Box 109"/>
          <p:cNvSpPr/>
          <p:nvPr/>
        </p:nvSpPr>
        <p:spPr>
          <a:xfrm>
            <a:off x="2232000" y="5459400"/>
            <a:ext cx="251928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ÁNGULO SÓLIDO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Text Box 110"/>
          <p:cNvSpPr/>
          <p:nvPr/>
        </p:nvSpPr>
        <p:spPr>
          <a:xfrm>
            <a:off x="5003640" y="504972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Radiá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Text Box 111"/>
          <p:cNvSpPr/>
          <p:nvPr/>
        </p:nvSpPr>
        <p:spPr>
          <a:xfrm>
            <a:off x="5003640" y="5459400"/>
            <a:ext cx="1376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Estereorradiá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Text Box 112"/>
          <p:cNvSpPr/>
          <p:nvPr/>
        </p:nvSpPr>
        <p:spPr>
          <a:xfrm>
            <a:off x="6588000" y="505476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rad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Text Box 113"/>
          <p:cNvSpPr/>
          <p:nvPr/>
        </p:nvSpPr>
        <p:spPr>
          <a:xfrm>
            <a:off x="6588000" y="5451480"/>
            <a:ext cx="1187640" cy="246240"/>
          </a:xfrm>
          <a:prstGeom prst="rect">
            <a:avLst/>
          </a:prstGeom>
          <a:noFill/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Medium"/>
              </a:rPr>
              <a:t>sr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Line 115"/>
          <p:cNvSpPr/>
          <p:nvPr/>
        </p:nvSpPr>
        <p:spPr>
          <a:xfrm>
            <a:off x="1979640" y="191628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Line 116"/>
          <p:cNvSpPr/>
          <p:nvPr/>
        </p:nvSpPr>
        <p:spPr>
          <a:xfrm>
            <a:off x="1979640" y="479736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Line 117"/>
          <p:cNvSpPr/>
          <p:nvPr/>
        </p:nvSpPr>
        <p:spPr>
          <a:xfrm>
            <a:off x="1979640" y="585468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Line 118"/>
          <p:cNvSpPr/>
          <p:nvPr/>
        </p:nvSpPr>
        <p:spPr>
          <a:xfrm>
            <a:off x="1979640" y="4941720"/>
            <a:ext cx="5796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Text Box 119"/>
          <p:cNvSpPr/>
          <p:nvPr/>
        </p:nvSpPr>
        <p:spPr>
          <a:xfrm>
            <a:off x="8029440" y="1557360"/>
            <a:ext cx="863640" cy="398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Franklin Gothic Medium"/>
              </a:rPr>
              <a:t>DEFINICIÓN</a:t>
            </a:r>
            <a:endParaRPr b="1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AutoShape 120">
            <a:hlinkClick r:id="rId2"/>
          </p:cNvPr>
          <p:cNvSpPr/>
          <p:nvPr/>
        </p:nvSpPr>
        <p:spPr>
          <a:xfrm>
            <a:off x="8064360" y="19782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AutoShape 121">
            <a:hlinkClick r:id="rId3" action="ppaction://hlinksldjump"/>
          </p:cNvPr>
          <p:cNvSpPr/>
          <p:nvPr/>
        </p:nvSpPr>
        <p:spPr>
          <a:xfrm>
            <a:off x="8064360" y="238752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AutoShape 122">
            <a:hlinkClick r:id="rId4" action="ppaction://hlinksldjump"/>
          </p:cNvPr>
          <p:cNvSpPr/>
          <p:nvPr/>
        </p:nvSpPr>
        <p:spPr>
          <a:xfrm>
            <a:off x="8064360" y="27972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AutoShape 123">
            <a:hlinkClick r:id="rId5" action="ppaction://hlinksldjump"/>
          </p:cNvPr>
          <p:cNvSpPr/>
          <p:nvPr/>
        </p:nvSpPr>
        <p:spPr>
          <a:xfrm>
            <a:off x="8064360" y="320688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AutoShape 124">
            <a:hlinkClick r:id="rId6" action="ppaction://hlinksldjump"/>
          </p:cNvPr>
          <p:cNvSpPr/>
          <p:nvPr/>
        </p:nvSpPr>
        <p:spPr>
          <a:xfrm>
            <a:off x="8064360" y="3616200"/>
            <a:ext cx="828720" cy="28764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2181" h="21600">
                <a:moveTo>
                  <a:pt x="0" y="0"/>
                </a:moveTo>
                <a:lnTo>
                  <a:pt x="62181" y="0"/>
                </a:lnTo>
                <a:lnTo>
                  <a:pt x="62181" y="21600"/>
                </a:lnTo>
                <a:lnTo>
                  <a:pt x="0" y="21600"/>
                </a:lnTo>
                <a:close/>
              </a:path>
              <a:path fill="lightenLess" w="62181" h="21600">
                <a:moveTo>
                  <a:pt x="0" y="0"/>
                </a:moveTo>
                <a:lnTo>
                  <a:pt x="62181" y="0"/>
                </a:lnTo>
                <a:lnTo>
                  <a:pt x="60781" y="1400"/>
                </a:lnTo>
                <a:lnTo>
                  <a:pt x="1400" y="1400"/>
                </a:lnTo>
                <a:close/>
              </a:path>
              <a:path fill="darken" w="62181" h="21600">
                <a:moveTo>
                  <a:pt x="62181" y="0"/>
                </a:moveTo>
                <a:lnTo>
                  <a:pt x="62181" y="21600"/>
                </a:lnTo>
                <a:lnTo>
                  <a:pt x="60781" y="20200"/>
                </a:lnTo>
                <a:lnTo>
                  <a:pt x="60781" y="1400"/>
                </a:lnTo>
                <a:close/>
              </a:path>
              <a:path fill="darkenLess" w="62181" h="21600">
                <a:moveTo>
                  <a:pt x="6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81" y="20200"/>
                </a:lnTo>
                <a:close/>
              </a:path>
              <a:path fill="lighten" w="6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81" h="21600">
                <a:moveTo>
                  <a:pt x="24084" y="3794"/>
                </a:moveTo>
                <a:lnTo>
                  <a:pt x="38097" y="10800"/>
                </a:lnTo>
                <a:lnTo>
                  <a:pt x="24084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AutoShape 125">
            <a:hlinkClick r:id="rId7" action="ppaction://hlinksldjump"/>
          </p:cNvPr>
          <p:cNvSpPr/>
          <p:nvPr/>
        </p:nvSpPr>
        <p:spPr>
          <a:xfrm>
            <a:off x="8064360" y="402588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AutoShape 126">
            <a:hlinkClick r:id="rId8" action="ppaction://hlinksldjump"/>
          </p:cNvPr>
          <p:cNvSpPr/>
          <p:nvPr/>
        </p:nvSpPr>
        <p:spPr>
          <a:xfrm>
            <a:off x="8064360" y="443700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AutoShape 127">
            <a:hlinkClick r:id="rId9" action="ppaction://hlinksldjump"/>
          </p:cNvPr>
          <p:cNvSpPr/>
          <p:nvPr/>
        </p:nvSpPr>
        <p:spPr>
          <a:xfrm>
            <a:off x="8064360" y="5049720"/>
            <a:ext cx="828720" cy="28728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2259" h="21600">
                <a:moveTo>
                  <a:pt x="0" y="0"/>
                </a:moveTo>
                <a:lnTo>
                  <a:pt x="62259" y="0"/>
                </a:lnTo>
                <a:lnTo>
                  <a:pt x="62259" y="21600"/>
                </a:lnTo>
                <a:lnTo>
                  <a:pt x="0" y="21600"/>
                </a:lnTo>
                <a:close/>
              </a:path>
              <a:path fill="lightenLess" w="62259" h="21600">
                <a:moveTo>
                  <a:pt x="0" y="0"/>
                </a:moveTo>
                <a:lnTo>
                  <a:pt x="62259" y="0"/>
                </a:lnTo>
                <a:lnTo>
                  <a:pt x="60859" y="1400"/>
                </a:lnTo>
                <a:lnTo>
                  <a:pt x="1400" y="1400"/>
                </a:lnTo>
                <a:close/>
              </a:path>
              <a:path fill="darken" w="62259" h="21600">
                <a:moveTo>
                  <a:pt x="62259" y="0"/>
                </a:moveTo>
                <a:lnTo>
                  <a:pt x="62259" y="21600"/>
                </a:lnTo>
                <a:lnTo>
                  <a:pt x="60859" y="20200"/>
                </a:lnTo>
                <a:lnTo>
                  <a:pt x="60859" y="1400"/>
                </a:lnTo>
                <a:close/>
              </a:path>
              <a:path fill="darkenLess" w="62259" h="21600">
                <a:moveTo>
                  <a:pt x="6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59" y="20200"/>
                </a:lnTo>
                <a:close/>
              </a:path>
              <a:path fill="lighten" w="6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59" h="21600">
                <a:moveTo>
                  <a:pt x="24123" y="3794"/>
                </a:moveTo>
                <a:lnTo>
                  <a:pt x="38136" y="10800"/>
                </a:lnTo>
                <a:lnTo>
                  <a:pt x="2412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AutoShape 128">
            <a:hlinkClick r:id="rId10" action="ppaction://hlinksldjump"/>
          </p:cNvPr>
          <p:cNvSpPr/>
          <p:nvPr/>
        </p:nvSpPr>
        <p:spPr>
          <a:xfrm>
            <a:off x="8064360" y="5445000"/>
            <a:ext cx="828720" cy="287640"/>
          </a:xfrm>
          <a:custGeom>
            <a:avLst/>
            <a:gdLst>
              <a:gd name="textAreaLeft" fmla="*/ 18360 w 828720"/>
              <a:gd name="textAreaRight" fmla="*/ 810360 w 82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2181" h="21600">
                <a:moveTo>
                  <a:pt x="0" y="0"/>
                </a:moveTo>
                <a:lnTo>
                  <a:pt x="62181" y="0"/>
                </a:lnTo>
                <a:lnTo>
                  <a:pt x="62181" y="21600"/>
                </a:lnTo>
                <a:lnTo>
                  <a:pt x="0" y="21600"/>
                </a:lnTo>
                <a:close/>
              </a:path>
              <a:path fill="lightenLess" w="62181" h="21600">
                <a:moveTo>
                  <a:pt x="0" y="0"/>
                </a:moveTo>
                <a:lnTo>
                  <a:pt x="62181" y="0"/>
                </a:lnTo>
                <a:lnTo>
                  <a:pt x="60781" y="1400"/>
                </a:lnTo>
                <a:lnTo>
                  <a:pt x="1400" y="1400"/>
                </a:lnTo>
                <a:close/>
              </a:path>
              <a:path fill="darken" w="62181" h="21600">
                <a:moveTo>
                  <a:pt x="62181" y="0"/>
                </a:moveTo>
                <a:lnTo>
                  <a:pt x="62181" y="21600"/>
                </a:lnTo>
                <a:lnTo>
                  <a:pt x="60781" y="20200"/>
                </a:lnTo>
                <a:lnTo>
                  <a:pt x="60781" y="1400"/>
                </a:lnTo>
                <a:close/>
              </a:path>
              <a:path fill="darkenLess" w="62181" h="21600">
                <a:moveTo>
                  <a:pt x="6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81" y="20200"/>
                </a:lnTo>
                <a:close/>
              </a:path>
              <a:path fill="lighten" w="6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81" h="21600">
                <a:moveTo>
                  <a:pt x="24084" y="3794"/>
                </a:moveTo>
                <a:lnTo>
                  <a:pt x="38097" y="10800"/>
                </a:lnTo>
                <a:lnTo>
                  <a:pt x="24084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  <p:sndAc>
      <p:stSnd>
        <p:snd r:embed="rId1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1090440" y="803160"/>
            <a:ext cx="3805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Estereorradiá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580000" y="801720"/>
            <a:ext cx="31780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el ángulo sólido que, con vértice en el centro de una esfera, abarca un área de la superficie esférica igual a la de un cuadrado que tiene por lado el radio de la esfera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Line 7"/>
          <p:cNvSpPr/>
          <p:nvPr/>
        </p:nvSpPr>
        <p:spPr>
          <a:xfrm flipV="1">
            <a:off x="3319560" y="800280"/>
            <a:ext cx="229716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009800" y="553392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AutoShape 10">
            <a:hlinkClick r:id="" action="ppaction://hlinkshowjump?jump=firstslide"/>
          </p:cNvPr>
          <p:cNvSpPr/>
          <p:nvPr/>
        </p:nvSpPr>
        <p:spPr>
          <a:xfrm>
            <a:off x="482760" y="55292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3" name="Picture 11" descr="fq3_pres_01_01"/>
          <p:cNvPicPr/>
          <p:nvPr/>
        </p:nvPicPr>
        <p:blipFill>
          <a:blip r:embed="rId1"/>
          <a:stretch/>
        </p:blipFill>
        <p:spPr>
          <a:xfrm>
            <a:off x="720720" y="1268280"/>
            <a:ext cx="4103640" cy="4104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3"/>
          <p:cNvSpPr/>
          <p:nvPr/>
        </p:nvSpPr>
        <p:spPr>
          <a:xfrm>
            <a:off x="5580000" y="3429000"/>
            <a:ext cx="3205080" cy="1006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Fíjate en la imagen;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 es el radio de la esfera; por tanto, el valor de la superficie esférica será equivalente a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 (esto es, el área de la superficie de un cuadrado de radio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356000" y="3897360"/>
            <a:ext cx="1224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1460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27360" y="19224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1090440" y="803160"/>
            <a:ext cx="3265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Metr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Text Box 111"/>
          <p:cNvSpPr/>
          <p:nvPr/>
        </p:nvSpPr>
        <p:spPr>
          <a:xfrm>
            <a:off x="5219640" y="800280"/>
            <a:ext cx="3538440" cy="32576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distancia entre dos trazos realizados sobre una barra de platino e iridio que se conserva en la Oficina Internacional de Pesas y Medidas de París. En 1960, se vuelve a definir como 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50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63,73 longitudes de onda de la luz anaranjada-rojiza emitida por el átomo de Kriptón-86 . En 1983, se redefine como la longitud recorrida por la luz en el vacío en un tiempo de 1/29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92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458  segundos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Line 149"/>
          <p:cNvSpPr/>
          <p:nvPr/>
        </p:nvSpPr>
        <p:spPr>
          <a:xfrm flipV="1">
            <a:off x="3319560" y="800280"/>
            <a:ext cx="190008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Text Box 163">
            <a:hlinkClick r:id="rId1" action="ppaction://hlinksldjump"/>
          </p:cNvPr>
          <p:cNvSpPr/>
          <p:nvPr/>
        </p:nvSpPr>
        <p:spPr>
          <a:xfrm>
            <a:off x="1101600" y="5245200"/>
            <a:ext cx="32544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AutoShape 169">
            <a:hlinkClick r:id="" action="ppaction://hlinkshowjump?jump=firstslide"/>
          </p:cNvPr>
          <p:cNvSpPr/>
          <p:nvPr/>
        </p:nvSpPr>
        <p:spPr>
          <a:xfrm>
            <a:off x="576360" y="5241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Text Box 174"/>
          <p:cNvSpPr/>
          <p:nvPr/>
        </p:nvSpPr>
        <p:spPr>
          <a:xfrm>
            <a:off x="5256360" y="4365720"/>
            <a:ext cx="3528720" cy="641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n la fotografía se puede observar el metro patrón que se conserva en el Centro Español de Metrología (Madrid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Rectangle 176"/>
          <p:cNvSpPr/>
          <p:nvPr/>
        </p:nvSpPr>
        <p:spPr>
          <a:xfrm>
            <a:off x="1079640" y="1268280"/>
            <a:ext cx="3276360" cy="3745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4" name="Picture 173" descr="fq3_metro_patron_bd"/>
          <p:cNvPicPr/>
          <p:nvPr/>
        </p:nvPicPr>
        <p:blipFill>
          <a:blip r:embed="rId2"/>
          <a:stretch/>
        </p:blipFill>
        <p:spPr>
          <a:xfrm>
            <a:off x="1079640" y="1268280"/>
            <a:ext cx="3276360" cy="3743280"/>
          </a:xfrm>
          <a:prstGeom prst="rect">
            <a:avLst/>
          </a:prstGeom>
          <a:ln w="0">
            <a:noFill/>
          </a:ln>
        </p:spPr>
      </p:pic>
      <p:sp>
        <p:nvSpPr>
          <p:cNvPr id="105" name="Line 178"/>
          <p:cNvSpPr/>
          <p:nvPr/>
        </p:nvSpPr>
        <p:spPr>
          <a:xfrm>
            <a:off x="4356000" y="4724280"/>
            <a:ext cx="900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zoom dir="out"/>
    <p:sndAc>
      <p:stSnd>
        <p:snd r:embed="rId3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8" descr="fq3_balanza_electronica_bd_011910"/>
          <p:cNvPicPr/>
          <p:nvPr/>
        </p:nvPicPr>
        <p:blipFill>
          <a:blip r:embed="rId1"/>
          <a:srcRect l="17622" t="10763" r="20003" b="0"/>
          <a:stretch/>
        </p:blipFill>
        <p:spPr>
          <a:xfrm>
            <a:off x="216000" y="2181240"/>
            <a:ext cx="1981080" cy="3373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090440" y="803160"/>
            <a:ext cx="3049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Kilogram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356000" y="817560"/>
            <a:ext cx="44020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masa de un cilindro de platino e iridio</a:t>
            </a:r>
            <a:r>
              <a:rPr b="1" lang="es-ES_tradnl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de 39 milímetros de diámetro y 39 milímetros de altura y que se conserva en la oficina de Pesas y Medidas de París. En las imágenes puedes observar diferentes tipos de balanzas.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348000" y="816120"/>
            <a:ext cx="100800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Text Box 20">
            <a:hlinkClick r:id="rId2" action="ppaction://hlinksldjump"/>
          </p:cNvPr>
          <p:cNvSpPr/>
          <p:nvPr/>
        </p:nvSpPr>
        <p:spPr>
          <a:xfrm>
            <a:off x="3629160" y="605808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AutoShape 21">
            <a:hlinkClick r:id="" action="ppaction://hlinkshowjump?jump=firstslide"/>
          </p:cNvPr>
          <p:cNvSpPr/>
          <p:nvPr/>
        </p:nvSpPr>
        <p:spPr>
          <a:xfrm>
            <a:off x="3102120" y="60530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2" name="Picture 27" descr="fq3_balanza_precision_bd_011910"/>
          <p:cNvPicPr/>
          <p:nvPr/>
        </p:nvPicPr>
        <p:blipFill>
          <a:blip r:embed="rId3"/>
          <a:srcRect l="0" t="0" r="3754" b="0"/>
          <a:stretch/>
        </p:blipFill>
        <p:spPr>
          <a:xfrm>
            <a:off x="2376360" y="2276640"/>
            <a:ext cx="1800360" cy="306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fq3_balanza_romana_bd_011910"/>
          <p:cNvPicPr/>
          <p:nvPr/>
        </p:nvPicPr>
        <p:blipFill>
          <a:blip r:embed="rId4"/>
          <a:srcRect l="14283" t="0" r="7151" b="0"/>
          <a:stretch/>
        </p:blipFill>
        <p:spPr>
          <a:xfrm>
            <a:off x="4356000" y="2274840"/>
            <a:ext cx="1554120" cy="302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fq3_balanza_platillos_bd_011910"/>
          <p:cNvPicPr/>
          <p:nvPr/>
        </p:nvPicPr>
        <p:blipFill>
          <a:blip r:embed="rId5"/>
          <a:srcRect l="15245" t="0" r="18094" b="0"/>
          <a:stretch/>
        </p:blipFill>
        <p:spPr>
          <a:xfrm>
            <a:off x="6048360" y="2274840"/>
            <a:ext cx="273672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5"/>
          <p:cNvSpPr/>
          <p:nvPr/>
        </p:nvSpPr>
        <p:spPr>
          <a:xfrm>
            <a:off x="2413080" y="5445000"/>
            <a:ext cx="1763640" cy="4590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electrónica de precisión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289080" y="5445000"/>
            <a:ext cx="183492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de precisión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4356000" y="5445000"/>
            <a:ext cx="154944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romana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6048360" y="5445000"/>
            <a:ext cx="2771640" cy="4564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Balanza de platillos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split dir="out" orient="vert"/>
    <p:sndAc>
      <p:stSnd>
        <p:snd r:embed="rId6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1090440" y="803160"/>
            <a:ext cx="3481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Segund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48360" y="809640"/>
            <a:ext cx="3609720" cy="37443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Se define a veces, aunque se sabe que no es un valor constante, como la fracción 1/86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400 del día solar medio ( tiempo que tarda la Tierra en dar una vuelta sobre su eje de rotación). La última definición, de 1967, alude a la frecuencia de resonancia del átomo de cesio, 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192</a:t>
            </a:r>
            <a:r>
              <a:rPr b="1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3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70 Hz; así, en la actualidad se define como la duración de 9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192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631</a:t>
            </a:r>
            <a:r>
              <a:rPr b="0" lang="es-ES_tradnl" sz="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770 períodos de la radiación que corresponde a la transición entre dos niveles energéticos hiperfinos del estado fundamental del átomo de cesio-133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4427640" y="812880"/>
            <a:ext cx="720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Text Box 19">
            <a:hlinkClick r:id="rId1" action="ppaction://hlinksldjump"/>
          </p:cNvPr>
          <p:cNvSpPr/>
          <p:nvPr/>
        </p:nvSpPr>
        <p:spPr>
          <a:xfrm>
            <a:off x="1009800" y="5462640"/>
            <a:ext cx="35622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AutoShape 20">
            <a:hlinkClick r:id="" action="ppaction://hlinkshowjump?jump=firstslide"/>
          </p:cNvPr>
          <p:cNvSpPr/>
          <p:nvPr/>
        </p:nvSpPr>
        <p:spPr>
          <a:xfrm>
            <a:off x="482760" y="5457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4" name="Picture 24" descr="fq3_cronometro_bd_011910"/>
          <p:cNvPicPr/>
          <p:nvPr/>
        </p:nvPicPr>
        <p:blipFill>
          <a:blip r:embed="rId2"/>
          <a:srcRect l="7143" t="0" r="7143" b="0"/>
          <a:stretch/>
        </p:blipFill>
        <p:spPr>
          <a:xfrm>
            <a:off x="1079640" y="1268280"/>
            <a:ext cx="3490920" cy="3924360"/>
          </a:xfrm>
          <a:prstGeom prst="rect">
            <a:avLst/>
          </a:prstGeom>
          <a:ln w="0">
            <a:noFill/>
          </a:ln>
        </p:spPr>
      </p:pic>
      <p:sp>
        <p:nvSpPr>
          <p:cNvPr id="125" name="Line 25"/>
          <p:cNvSpPr/>
          <p:nvPr/>
        </p:nvSpPr>
        <p:spPr>
          <a:xfrm>
            <a:off x="4572000" y="4954680"/>
            <a:ext cx="576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5148360" y="4724280"/>
            <a:ext cx="3636720" cy="4590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l instrumento que utilizamos para medir el tiempo es el cronómetro. 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1079640" y="1268280"/>
            <a:ext cx="3492360" cy="39243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cover dir="u"/>
    <p:sndAc>
      <p:stSnd>
        <p:snd r:embed="rId3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9"/>
          <p:cNvSpPr/>
          <p:nvPr/>
        </p:nvSpPr>
        <p:spPr>
          <a:xfrm>
            <a:off x="1090440" y="803160"/>
            <a:ext cx="3625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Amperio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724360" y="800280"/>
            <a:ext cx="3033720" cy="2527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Es la intensidad de una corriente eléctrica que, al circular en el mismo sentido por dos conductores paralelos infinitamente largos, situados en el vacío y a un metro de distancia, hace que se atraigan con una fuerza de 2 · 10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Franklin Gothic Medium"/>
              </a:rPr>
              <a:t>-7</a:t>
            </a:r>
            <a:r>
              <a:rPr b="0" lang="es-ES_tradnl" sz="1600" spc="-1" strike="noStrike">
                <a:solidFill>
                  <a:srgbClr val="000000"/>
                </a:solidFill>
                <a:latin typeface="Franklin Gothic Medium"/>
              </a:rPr>
              <a:t> newton por cada metro de longitud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759280" y="4348080"/>
            <a:ext cx="3060720" cy="6415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El instrumento de medida que utilizamos para medir la intensidad de corriente es el amperímetro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3319560" y="800280"/>
            <a:ext cx="243972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Text Box 19">
            <a:hlinkClick r:id="rId1" action="ppaction://hlinksldjump"/>
          </p:cNvPr>
          <p:cNvSpPr/>
          <p:nvPr/>
        </p:nvSpPr>
        <p:spPr>
          <a:xfrm>
            <a:off x="1138320" y="5281560"/>
            <a:ext cx="35416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AutoShape 20">
            <a:hlinkClick r:id="" action="ppaction://hlinkshowjump?jump=firstslide"/>
          </p:cNvPr>
          <p:cNvSpPr/>
          <p:nvPr/>
        </p:nvSpPr>
        <p:spPr>
          <a:xfrm>
            <a:off x="611280" y="527688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4" name="Picture 25" descr="fq3_amperimetro_bd_011910"/>
          <p:cNvPicPr/>
          <p:nvPr/>
        </p:nvPicPr>
        <p:blipFill>
          <a:blip r:embed="rId2"/>
          <a:stretch/>
        </p:blipFill>
        <p:spPr>
          <a:xfrm>
            <a:off x="1116000" y="1376280"/>
            <a:ext cx="3564000" cy="3600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7"/>
          <p:cNvSpPr/>
          <p:nvPr/>
        </p:nvSpPr>
        <p:spPr>
          <a:xfrm>
            <a:off x="1116000" y="1376280"/>
            <a:ext cx="3564000" cy="3637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4680000" y="4689360"/>
            <a:ext cx="1079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cover dir="ld"/>
    <p:sndAc>
      <p:stSnd>
        <p:snd r:embed="rId3" name="pu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9"/>
          <p:cNvSpPr/>
          <p:nvPr/>
        </p:nvSpPr>
        <p:spPr>
          <a:xfrm>
            <a:off x="1090440" y="790560"/>
            <a:ext cx="11052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Kelvi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079640" y="798480"/>
            <a:ext cx="7678440" cy="20408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La escala termodinámica de temperaturas se adoptó en la XI Conferencia General de Pesos y Medidas celebrada en París en 1960, y se define como </a:t>
            </a:r>
            <a:r>
              <a:rPr b="0" i="1" lang="es-ES" sz="1600" spc="-1" strike="noStrike">
                <a:solidFill>
                  <a:srgbClr val="000000"/>
                </a:solidFill>
                <a:latin typeface="Franklin Gothic Medium"/>
              </a:rPr>
              <a:t>la fracción 1/273,16 de la temperatura termodinámica del punto triple del agua.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Con esto, la temperatura de congelación del agua a la presión de 1 atm se tomó como 273,15 K, y la de ebullición, 373,15 K. Por tanto, y al igual que la escala Celsius (llamada así en honor del astrónomo sueco Anders Celsius, quien la propuso en el siglo XVIII), la escala Kelvin tiene 100 divisiones; cada una de ellas es un Kelvin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896000" y="2637000"/>
            <a:ext cx="0" cy="5047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3564000" y="595008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AutoShape 20">
            <a:hlinkClick r:id="" action="ppaction://hlinkshowjump?jump=firstslide"/>
          </p:cNvPr>
          <p:cNvSpPr/>
          <p:nvPr/>
        </p:nvSpPr>
        <p:spPr>
          <a:xfrm>
            <a:off x="3036960" y="594504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2" name="Picture 35" descr="fq3_02_08"/>
          <p:cNvPicPr/>
          <p:nvPr/>
        </p:nvPicPr>
        <p:blipFill>
          <a:blip r:embed="rId1"/>
          <a:stretch/>
        </p:blipFill>
        <p:spPr>
          <a:xfrm>
            <a:off x="1079640" y="2889360"/>
            <a:ext cx="7705440" cy="28447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"/>
          <p:cNvSpPr/>
          <p:nvPr/>
        </p:nvSpPr>
        <p:spPr>
          <a:xfrm>
            <a:off x="1090440" y="803160"/>
            <a:ext cx="22892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Mol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183200" y="817560"/>
            <a:ext cx="457488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cantidad de sustancia que contiene tantas unidades elementales de materia (átomos, moléculas, iones...) como las que hay en 0,012 kg de carbono-12 (6,023 ·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Franklin Gothic Medium"/>
              </a:rPr>
              <a:t>23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). Este número es el que conocemos como número de Avogadr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319560" y="811080"/>
            <a:ext cx="8506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6477120" y="2881440"/>
            <a:ext cx="2880" cy="37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1009800" y="524664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AutoShape 23">
            <a:hlinkClick r:id="" action="ppaction://hlinkshowjump?jump=firstslide"/>
          </p:cNvPr>
          <p:cNvSpPr/>
          <p:nvPr/>
        </p:nvSpPr>
        <p:spPr>
          <a:xfrm>
            <a:off x="482760" y="524196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245120" y="4994280"/>
            <a:ext cx="4574880" cy="100656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La fotografía muestra un mol de diferentes sustancias: agua, fósforo, cinc y dicromato de potasio. Aunque la masa es diferente para cada una de ellas, todas contienen el mismo número de entidades elementales (la misma cantidad de sustancia)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6431040" y="2151000"/>
            <a:ext cx="3240" cy="2761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Line 34"/>
          <p:cNvSpPr/>
          <p:nvPr/>
        </p:nvSpPr>
        <p:spPr>
          <a:xfrm>
            <a:off x="6443640" y="4700520"/>
            <a:ext cx="3240" cy="2761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2" name="Picture 27" descr="fq3_mol_011910"/>
          <p:cNvPicPr/>
          <p:nvPr/>
        </p:nvPicPr>
        <p:blipFill>
          <a:blip r:embed="rId1"/>
          <a:srcRect l="3810" t="34193" r="3334" b="24932"/>
          <a:stretch/>
        </p:blipFill>
        <p:spPr>
          <a:xfrm>
            <a:off x="1089000" y="2416320"/>
            <a:ext cx="7731000" cy="23079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7"/>
          <p:cNvSpPr/>
          <p:nvPr/>
        </p:nvSpPr>
        <p:spPr>
          <a:xfrm>
            <a:off x="1079640" y="2421000"/>
            <a:ext cx="7740360" cy="23032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random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9"/>
          <p:cNvSpPr/>
          <p:nvPr/>
        </p:nvSpPr>
        <p:spPr>
          <a:xfrm>
            <a:off x="1090440" y="803160"/>
            <a:ext cx="3768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Candela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192720" y="800280"/>
            <a:ext cx="2565360" cy="42310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intensidad luminosa de una fuente que, en una dirección dada, emite una radiación monocromática de frecuencia 540 ·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Franklin Gothic Medium"/>
              </a:rPr>
              <a:t>12</a:t>
            </a: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 Hz, y cuya intensidad energética en esa dirección es de 1/683 vatios/estereorradián (el estereorradián es una unidad suplementaria del SI cuya definición puedes consultar en esta misma presentación).</a:t>
            </a: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3716280" y="800280"/>
            <a:ext cx="2584440" cy="10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5867280" y="5157720"/>
            <a:ext cx="29228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AutoShape 20">
            <a:hlinkClick r:id="" action="ppaction://hlinkshowjump?jump=firstslide"/>
          </p:cNvPr>
          <p:cNvSpPr/>
          <p:nvPr/>
        </p:nvSpPr>
        <p:spPr>
          <a:xfrm>
            <a:off x="5340240" y="5153040"/>
            <a:ext cx="520920" cy="6001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82">
                <a:moveTo>
                  <a:pt x="0" y="0"/>
                </a:moveTo>
                <a:lnTo>
                  <a:pt x="21600" y="0"/>
                </a:lnTo>
                <a:lnTo>
                  <a:pt x="21600" y="24882"/>
                </a:lnTo>
                <a:lnTo>
                  <a:pt x="0" y="24882"/>
                </a:lnTo>
                <a:close/>
              </a:path>
              <a:path fill="lightenLess" w="21600" h="24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82">
                <a:moveTo>
                  <a:pt x="21600" y="0"/>
                </a:moveTo>
                <a:lnTo>
                  <a:pt x="21600" y="24882"/>
                </a:lnTo>
                <a:lnTo>
                  <a:pt x="20200" y="23482"/>
                </a:lnTo>
                <a:lnTo>
                  <a:pt x="20200" y="1400"/>
                </a:lnTo>
                <a:close/>
              </a:path>
              <a:path fill="darkenLess" w="21600" h="24882">
                <a:moveTo>
                  <a:pt x="21600" y="24882"/>
                </a:moveTo>
                <a:lnTo>
                  <a:pt x="0" y="24882"/>
                </a:lnTo>
                <a:lnTo>
                  <a:pt x="1400" y="23482"/>
                </a:lnTo>
                <a:lnTo>
                  <a:pt x="20200" y="23482"/>
                </a:lnTo>
                <a:close/>
              </a:path>
              <a:path fill="lighten" w="21600" h="24882">
                <a:moveTo>
                  <a:pt x="0" y="24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82"/>
                </a:lnTo>
                <a:close/>
              </a:path>
              <a:path fill="darken" w="21600" h="24882">
                <a:moveTo>
                  <a:pt x="3794" y="12441"/>
                </a:moveTo>
                <a:lnTo>
                  <a:pt x="17806" y="5434"/>
                </a:lnTo>
                <a:lnTo>
                  <a:pt x="17806" y="194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9" name="Picture 28" descr="fq3_farola_bd_011910"/>
          <p:cNvPicPr/>
          <p:nvPr/>
        </p:nvPicPr>
        <p:blipFill>
          <a:blip r:embed="rId1"/>
          <a:stretch/>
        </p:blipFill>
        <p:spPr>
          <a:xfrm>
            <a:off x="1079640" y="1341360"/>
            <a:ext cx="374472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9"/>
          <p:cNvSpPr/>
          <p:nvPr/>
        </p:nvSpPr>
        <p:spPr>
          <a:xfrm>
            <a:off x="1090440" y="803160"/>
            <a:ext cx="22892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Franklin Gothic Medium"/>
              </a:rPr>
              <a:t>Radián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651640" y="817560"/>
            <a:ext cx="3106440" cy="15541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Es la medida de un ángulo plano central comprendido entre dos radios que abarcan un arco de longitud igual al radio con el que ha sido trazada la circunferencia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3346560" y="816120"/>
            <a:ext cx="23050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009800" y="5342040"/>
            <a:ext cx="29224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Vuelve a la tabla pulsando el ratón sobre este texto.</a:t>
            </a:r>
            <a:endParaRPr b="1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AutoShape 20">
            <a:hlinkClick r:id="" action="ppaction://hlinkshowjump?jump=firstslide"/>
          </p:cNvPr>
          <p:cNvSpPr/>
          <p:nvPr/>
        </p:nvSpPr>
        <p:spPr>
          <a:xfrm>
            <a:off x="482760" y="5337000"/>
            <a:ext cx="520560" cy="6001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0120"/>
              <a:gd name="textAreaBottom" fmla="*/ 566640 h 600120"/>
            </a:gdLst>
            <a:ahLst/>
            <a:rect l="textAreaLeft" t="textAreaTop" r="textAreaRight" b="textAreaBottom"/>
            <a:pathLst>
              <a:path w="21600" h="24899">
                <a:moveTo>
                  <a:pt x="0" y="0"/>
                </a:moveTo>
                <a:lnTo>
                  <a:pt x="21600" y="0"/>
                </a:lnTo>
                <a:lnTo>
                  <a:pt x="21600" y="24899"/>
                </a:lnTo>
                <a:lnTo>
                  <a:pt x="0" y="24899"/>
                </a:lnTo>
                <a:close/>
              </a:path>
              <a:path fill="lightenLess" w="21600" h="24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9">
                <a:moveTo>
                  <a:pt x="21600" y="0"/>
                </a:moveTo>
                <a:lnTo>
                  <a:pt x="21600" y="24899"/>
                </a:lnTo>
                <a:lnTo>
                  <a:pt x="20200" y="23499"/>
                </a:lnTo>
                <a:lnTo>
                  <a:pt x="20200" y="1400"/>
                </a:lnTo>
                <a:close/>
              </a:path>
              <a:path fill="darkenLess" w="21600" h="24899">
                <a:moveTo>
                  <a:pt x="21600" y="24899"/>
                </a:moveTo>
                <a:lnTo>
                  <a:pt x="0" y="24899"/>
                </a:lnTo>
                <a:lnTo>
                  <a:pt x="1400" y="23499"/>
                </a:lnTo>
                <a:lnTo>
                  <a:pt x="20200" y="23499"/>
                </a:lnTo>
                <a:close/>
              </a:path>
              <a:path fill="lighten" w="21600" h="24899">
                <a:moveTo>
                  <a:pt x="0" y="24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9"/>
                </a:lnTo>
                <a:close/>
              </a:path>
              <a:path fill="darken" w="21600" h="24899">
                <a:moveTo>
                  <a:pt x="3794" y="12449"/>
                </a:moveTo>
                <a:lnTo>
                  <a:pt x="17806" y="5443"/>
                </a:lnTo>
                <a:lnTo>
                  <a:pt x="17806" y="194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5" name="Picture 31" descr="fq1b_03_21"/>
          <p:cNvPicPr/>
          <p:nvPr/>
        </p:nvPicPr>
        <p:blipFill>
          <a:blip r:embed="rId1"/>
          <a:stretch/>
        </p:blipFill>
        <p:spPr>
          <a:xfrm>
            <a:off x="684360" y="1521000"/>
            <a:ext cx="3435120" cy="345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3"/>
          <p:cNvSpPr/>
          <p:nvPr/>
        </p:nvSpPr>
        <p:spPr>
          <a:xfrm>
            <a:off x="5651640" y="3519360"/>
            <a:ext cx="3097080" cy="82404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Observa que, de acuerdo con la definición de radián, si el radio de la circunferencia es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, la longitud del arco, </a:t>
            </a:r>
            <a:r>
              <a:rPr b="0" lang="es-ES" sz="12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0" i="1" lang="es-ES" sz="1200" spc="-1" strike="noStrike">
                <a:solidFill>
                  <a:srgbClr val="000000"/>
                </a:solidFill>
                <a:latin typeface="Franklin Gothic Medium"/>
              </a:rPr>
              <a:t>, que abarca un radián, ha de ser igual al primero.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3635280" y="3860640"/>
            <a:ext cx="201636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heel spokes="3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6:53:07Z</dcterms:created>
  <dc:creator>Grupo Anaya</dc:creator>
  <dc:description/>
  <dc:language>en-US</dc:language>
  <cp:lastModifiedBy>Pancho</cp:lastModifiedBy>
  <dcterms:modified xsi:type="dcterms:W3CDTF">2013-03-13T02:46:04Z</dcterms:modified>
  <cp:revision>56</cp:revision>
  <dc:subject/>
  <dc:title>Presentación de PowerPoint</dc:title>
</cp:coreProperties>
</file>